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BC1-A2DE-4F2E-9F98-4A64C9C2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3BD-5792-48B1-90A3-9A688BF2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DAE-CD32-4EB5-BED6-30DF79FF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A3A-20F5-4EC1-A8D5-5DA52388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F98-AB44-40B6-BD77-0EA304D9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0BC-C5BB-480E-8657-A76C83B4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0F5-C3DE-4D76-AF23-72AD069C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3AB-A797-4F98-BFDF-8C10E8A4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891-2A87-4035-A4EA-B38D7EF7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B1F-34F4-4074-83CE-6C99A2E0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25E-E213-4AED-BA6C-C0857E06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FF9-D723-4A12-9F77-412FCC8B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3BBE-7A5F-46D4-9BBC-8634ABCBB8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illionenshow Energie und wi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00"/>
                </a:solidFill>
                <a:latin typeface="Calibri"/>
              </a:rPr>
              <a:t>Kennst du dich aus, dann kannst du Millionen Kilowattstunden sparen helf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Vollbild anzeigen"/>
          <p:cNvPicPr/>
          <p:nvPr/>
        </p:nvPicPr>
        <p:blipFill>
          <a:blip r:embed="rId1"/>
          <a:stretch/>
        </p:blipFill>
        <p:spPr>
          <a:xfrm>
            <a:off x="4071960" y="5716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0.gstatic.com/images?q=tbn:H63Ue6z8e58dtM:http://s3.amazonaws.com/pixmac-preview/energy-icons-set-1.jpg"/>
          <p:cNvPicPr/>
          <p:nvPr/>
        </p:nvPicPr>
        <p:blipFill>
          <a:blip r:embed="rId2"/>
          <a:stretch/>
        </p:blipFill>
        <p:spPr>
          <a:xfrm>
            <a:off x="6000840" y="428760"/>
            <a:ext cx="2143080" cy="1658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imst"/>
          <p:cNvPicPr/>
          <p:nvPr/>
        </p:nvPicPr>
        <p:blipFill>
          <a:blip r:embed="rId3"/>
          <a:stretch/>
        </p:blipFill>
        <p:spPr>
          <a:xfrm>
            <a:off x="0" y="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as soll man tun, wenn es nach Gas riech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) Man telefoniert von der Wohnung a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) Man macht die Fenster 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 Man geht einfach w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) Man dreht den Gashahn ab und geht ra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as soll man tun, wenn es nach Gas riech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) Man telefoniert von der Wohnung a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) Man macht die Fenster 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 Man geht einfach w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Calibri"/>
              </a:rPr>
              <a:t>4) Man dreht den Gashahn ab und geht ra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ie gewinnt man Phänomen Elektrostati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) Durch die Reibu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) Durch bla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 Durch klats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) Durch stamp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ie gewinnt man Phänomen Elektrostatik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Calibri"/>
              </a:rPr>
              <a:t>1) Durch die Reibung</a:t>
            </a: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) Durch bla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 Durch klats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) Durch stamp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Was ist eine Energiear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) Ist Beweg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) Ist Schlaf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Ist S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)Ist still sitz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Was ist eine Energiear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Calibri"/>
              </a:rPr>
              <a:t>1) Ist Beweg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) Ist Schlaf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Ist S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)Ist still sitz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Wie spart man Energi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)Das Fenster aufmach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)Durch Energie Sparlamp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In allen Zimmern Licht einschal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)Alle Heizkörper aufdreh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Wie spart man Energi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)Das Fenster aufmach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Calibri"/>
              </a:rPr>
              <a:t>2)Durch Energie Sparlamp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In allen Zimmern Licht einschal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)Alle Heizkörper aufdreh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it wann gibt es Energi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)Schon seit i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) Seit dem es Menschen gi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Seit dem es Dinosaurier gi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)Seit dem es Autos gi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elcher der genannten Stoffe ist keine erneuerbare Energiequel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.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. S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. 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. Was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it wann gibt es Energi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Calibri"/>
              </a:rPr>
              <a:t>1)Schon seit i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) Seit dem es Menschen gi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)Seit dem es Dinosaurier gi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)Seit dem es Autos gi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elcher der genannten Stoffe ist keine erneuerbare Energiequel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.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Calibri"/>
              </a:rPr>
              <a:t>2. S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. So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. Was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elche Glühbirne spart am meisten Energi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. Normale Glühbir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. Leuchtstoffröh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. Neonleuch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.Energiesparlam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elche Glühbirne spart am meisten Energi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. Normale Glühbir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. Leuchtstoffröh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. Neonleuch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Calibri"/>
              </a:rPr>
              <a:t>4.Energiesparlam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Wie spart man am meisten St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.Täglich Dus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.Die Heizung lange anlass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.Elektrische Geräte immer aussc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.Kühlschrank nicht abtau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Wie spart man am meisten St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.Täglich Dusc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.Die Heizung lange anlass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Calibri"/>
              </a:rPr>
              <a:t>3.Elektrische Geräte immer aussc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.Kühlschrank nicht abtau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ie riecht G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.Nach F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2.Wie faule 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.Nach nic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.Nach Vani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Wie riecht G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1.Nach F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0000"/>
                </a:solidFill>
                <a:latin typeface="Calibri"/>
              </a:rPr>
              <a:t>2.Wie faule 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3.Nach nic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4.Nach Vanil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44:18Z</dcterms:created>
  <dc:creator>Evi</dc:creator>
  <dc:description/>
  <dc:language>en-US</dc:language>
  <cp:lastModifiedBy> </cp:lastModifiedBy>
  <dcterms:modified xsi:type="dcterms:W3CDTF">2010-05-08T18:46:38Z</dcterms:modified>
  <cp:revision>34</cp:revision>
  <dc:subject/>
  <dc:title>Millionenshow Energie</dc:title>
</cp:coreProperties>
</file>